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8B8-3126-489B-B37C-FA663D6D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E9A-98F4-470E-ACE3-91E7F8BC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C7A-14A5-4655-BE38-622F3E5D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2C1-C4A9-4EB3-ABAD-359C8C35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8D6-3797-4960-A050-4977BEBD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10C-10E2-467A-88C1-72261951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6A9-5FDD-4782-AC52-9558583B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D7A-8F2E-46CE-927B-AF6BC6E0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894-846C-4BD7-91AB-8FBB195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B9A-8115-4517-830E-071EAAC7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0D2-E8D6-4D41-9214-9B390C86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C86-910E-40A0-A769-C6D0106E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AF - Janvier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E72B-DCA8-4FEF-9083-E3B08CAF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-949680"/>
            <a:ext cx="9144000" cy="780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404640"/>
            <a:ext cx="161928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eur de l’administration et des fi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48360" y="401760"/>
            <a:ext cx="1619280" cy="71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rice adjointe de l’administration et des fi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33640"/>
            <a:ext cx="107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- Assistant(e) de dir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08720" y="1108080"/>
            <a:ext cx="136836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- Assistant(e) de direction (suivi conventio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01840" y="1943280"/>
            <a:ext cx="1258920" cy="718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f du service des affaires générales et immobiliè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0560" y="1943280"/>
            <a:ext cx="1258920" cy="718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f du service du budget et du contrôle de ges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0" y="1943280"/>
            <a:ext cx="1258920" cy="718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f du service de l’exécution budgétai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/>
          <p:nvPr/>
        </p:nvCxnSpPr>
        <p:spPr>
          <a:xfrm>
            <a:off x="4571640" y="-949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"/>
          <p:cNvSpPr/>
          <p:nvPr/>
        </p:nvSpPr>
        <p:spPr>
          <a:xfrm>
            <a:off x="684360" y="3068640"/>
            <a:ext cx="107928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Assistant marchés pub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419800"/>
            <a:ext cx="107928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Chargé de marchés pub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898080"/>
            <a:ext cx="107928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Chargé de marchés publics (clients / fournisseu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4699080"/>
            <a:ext cx="107928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Chargé de marchés pub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571640" y="-949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2411280" y="4273560"/>
            <a:ext cx="900360" cy="5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Chef du pôle baux  et assur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188680"/>
            <a:ext cx="900360" cy="550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Chef du pôle achats et logi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13280" y="3464640"/>
            <a:ext cx="1296360" cy="6141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Chef du pô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ratégie immobiliè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 trav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09840" y="5950080"/>
            <a:ext cx="1082520" cy="468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ch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6" idx="1"/>
            <a:endCxn id="57" idx="1"/>
          </p:cNvCxnSpPr>
          <p:nvPr/>
        </p:nvCxnSpPr>
        <p:spPr>
          <a:xfrm flipV="1" rot="10800000">
            <a:off x="2213280" y="2302200"/>
            <a:ext cx="88920" cy="1469520"/>
          </a:xfrm>
          <a:prstGeom prst="bentConnector3">
            <a:avLst>
              <a:gd name="adj1" fmla="val 3617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6" idx="1"/>
            <a:endCxn id="55" idx="1"/>
          </p:cNvCxnSpPr>
          <p:nvPr/>
        </p:nvCxnSpPr>
        <p:spPr>
          <a:xfrm flipH="1" flipV="1" rot="10800000">
            <a:off x="2301840" y="2302200"/>
            <a:ext cx="109800" cy="2241360"/>
          </a:xfrm>
          <a:prstGeom prst="bentConnector3">
            <a:avLst>
              <a:gd name="adj1" fmla="val -2118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6" idx="1"/>
            <a:endCxn id="56" idx="1"/>
          </p:cNvCxnSpPr>
          <p:nvPr/>
        </p:nvCxnSpPr>
        <p:spPr>
          <a:xfrm flipH="1" flipV="1" rot="10800000">
            <a:off x="2301840" y="2302560"/>
            <a:ext cx="109800" cy="3161880"/>
          </a:xfrm>
          <a:prstGeom prst="bentConnector3">
            <a:avLst>
              <a:gd name="adj1" fmla="val -21184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46" idx="1"/>
            <a:endCxn id="58" idx="1"/>
          </p:cNvCxnSpPr>
          <p:nvPr/>
        </p:nvCxnSpPr>
        <p:spPr>
          <a:xfrm flipH="1" flipV="1" rot="10800000">
            <a:off x="2301840" y="2302200"/>
            <a:ext cx="108360" cy="3882240"/>
          </a:xfrm>
          <a:prstGeom prst="bentConnector3">
            <a:avLst>
              <a:gd name="adj1" fmla="val -214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"/>
          <p:cNvSpPr/>
          <p:nvPr/>
        </p:nvSpPr>
        <p:spPr>
          <a:xfrm>
            <a:off x="4284720" y="3213000"/>
            <a:ext cx="900000" cy="468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Contrôleur de g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941720"/>
            <a:ext cx="1223640" cy="468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Assistant gestion achats  logi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78200" y="4270320"/>
            <a:ext cx="1224000" cy="5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Assistant gestion baux, travaux, assur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7" idx="1"/>
            <a:endCxn id="63" idx="1"/>
          </p:cNvCxnSpPr>
          <p:nvPr/>
        </p:nvCxnSpPr>
        <p:spPr>
          <a:xfrm flipH="1" flipV="1" rot="10800000">
            <a:off x="4030560" y="2302560"/>
            <a:ext cx="254520" cy="1145160"/>
          </a:xfrm>
          <a:prstGeom prst="bentConnector3">
            <a:avLst>
              <a:gd name="adj1" fmla="val -912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/>
          <p:nvPr/>
        </p:nvCxnSpPr>
        <p:spPr>
          <a:xfrm flipH="1" rot="16200000">
            <a:off x="4571640" y="-94932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719280" y="401760"/>
            <a:ext cx="1619280" cy="71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eur adjoint de l’administration et des fi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9280" y="1157400"/>
            <a:ext cx="1619280" cy="53964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ef du service des marchés publ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9" idx="1"/>
            <a:endCxn id="50" idx="1"/>
          </p:cNvCxnSpPr>
          <p:nvPr/>
        </p:nvCxnSpPr>
        <p:spPr>
          <a:xfrm flipV="1" rot="10800000">
            <a:off x="684000" y="1427400"/>
            <a:ext cx="35280" cy="1911240"/>
          </a:xfrm>
          <a:prstGeom prst="bentConnector3">
            <a:avLst>
              <a:gd name="adj1" fmla="val 762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9" idx="1"/>
            <a:endCxn id="52" idx="1"/>
          </p:cNvCxnSpPr>
          <p:nvPr/>
        </p:nvCxnSpPr>
        <p:spPr>
          <a:xfrm flipV="1" rot="10800000">
            <a:off x="684000" y="1427040"/>
            <a:ext cx="35280" cy="2822400"/>
          </a:xfrm>
          <a:prstGeom prst="bentConnector3">
            <a:avLst>
              <a:gd name="adj1" fmla="val 762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9" idx="1"/>
            <a:endCxn id="53" idx="1"/>
          </p:cNvCxnSpPr>
          <p:nvPr/>
        </p:nvCxnSpPr>
        <p:spPr>
          <a:xfrm flipV="1" rot="10800000">
            <a:off x="684000" y="1427040"/>
            <a:ext cx="35280" cy="3541680"/>
          </a:xfrm>
          <a:prstGeom prst="bentConnector3">
            <a:avLst>
              <a:gd name="adj1" fmla="val 762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69" idx="1"/>
            <a:endCxn id="51" idx="1"/>
          </p:cNvCxnSpPr>
          <p:nvPr/>
        </p:nvCxnSpPr>
        <p:spPr>
          <a:xfrm flipV="1" rot="10800000">
            <a:off x="684000" y="1427040"/>
            <a:ext cx="35280" cy="4262400"/>
          </a:xfrm>
          <a:prstGeom prst="bentConnector3">
            <a:avLst>
              <a:gd name="adj1" fmla="val 7628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44" idx="3"/>
            <a:endCxn id="42" idx="2"/>
          </p:cNvCxnSpPr>
          <p:nvPr/>
        </p:nvCxnSpPr>
        <p:spPr>
          <a:xfrm flipV="1">
            <a:off x="3706920" y="1123920"/>
            <a:ext cx="954360" cy="279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45" idx="1"/>
            <a:endCxn id="42" idx="2"/>
          </p:cNvCxnSpPr>
          <p:nvPr/>
        </p:nvCxnSpPr>
        <p:spPr>
          <a:xfrm rot="10800000">
            <a:off x="4660560" y="1123920"/>
            <a:ext cx="848160" cy="281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7485120" y="1844640"/>
            <a:ext cx="118728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FN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85120" y="2241720"/>
            <a:ext cx="1190520" cy="32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recet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4360" y="3933720"/>
            <a:ext cx="1079640" cy="3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,5 – Chef du pôle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1640" y="342900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1480" y="2781360"/>
            <a:ext cx="1079280" cy="539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-Adjoint C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ef du  pôle recet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85120" y="2602080"/>
            <a:ext cx="1190520" cy="32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recet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48" idx="1"/>
            <a:endCxn id="78" idx="1"/>
          </p:cNvCxnSpPr>
          <p:nvPr/>
        </p:nvCxnSpPr>
        <p:spPr>
          <a:xfrm flipV="1" rot="10800000">
            <a:off x="5724000" y="2302560"/>
            <a:ext cx="72000" cy="1829160"/>
          </a:xfrm>
          <a:prstGeom prst="bentConnector3">
            <a:avLst>
              <a:gd name="adj1" fmla="val 42361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7451640" y="414972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.5-Assist. gestion 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51640" y="4508640"/>
            <a:ext cx="1224000" cy="32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486720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51640" y="522756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51640" y="558792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 D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51640" y="5948280"/>
            <a:ext cx="1224000" cy="32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.5-Assist. gestion suivi budgé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51640" y="3787920"/>
            <a:ext cx="122400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0.5-Assist. g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épenses - 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5516640"/>
            <a:ext cx="122364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Assistant gestion achats logi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9" idx="1"/>
            <a:endCxn id="78" idx="3"/>
          </p:cNvCxnSpPr>
          <p:nvPr/>
        </p:nvCxnSpPr>
        <p:spPr>
          <a:xfrm flipV="1" rot="10800000">
            <a:off x="6803640" y="3949200"/>
            <a:ext cx="648000" cy="18216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3" idx="1"/>
            <a:endCxn id="78" idx="3"/>
          </p:cNvCxnSpPr>
          <p:nvPr/>
        </p:nvCxnSpPr>
        <p:spPr>
          <a:xfrm rot="10800000">
            <a:off x="6803640" y="4131000"/>
            <a:ext cx="648000" cy="18072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4" idx="1"/>
            <a:endCxn id="78" idx="3"/>
          </p:cNvCxnSpPr>
          <p:nvPr/>
        </p:nvCxnSpPr>
        <p:spPr>
          <a:xfrm rot="10800000">
            <a:off x="6803640" y="4131360"/>
            <a:ext cx="648000" cy="539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5" idx="1"/>
            <a:endCxn id="78" idx="3"/>
          </p:cNvCxnSpPr>
          <p:nvPr/>
        </p:nvCxnSpPr>
        <p:spPr>
          <a:xfrm rot="10800000">
            <a:off x="6803640" y="4131360"/>
            <a:ext cx="648000" cy="89820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8" idx="1"/>
            <a:endCxn id="78" idx="3"/>
          </p:cNvCxnSpPr>
          <p:nvPr/>
        </p:nvCxnSpPr>
        <p:spPr>
          <a:xfrm rot="10800000">
            <a:off x="6803640" y="4131000"/>
            <a:ext cx="648000" cy="197928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7" idx="1"/>
            <a:endCxn id="78" idx="3"/>
          </p:cNvCxnSpPr>
          <p:nvPr/>
        </p:nvCxnSpPr>
        <p:spPr>
          <a:xfrm rot="10800000">
            <a:off x="6803640" y="4131360"/>
            <a:ext cx="648000" cy="161892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64" idx="1"/>
            <a:endCxn id="56" idx="3"/>
          </p:cNvCxnSpPr>
          <p:nvPr/>
        </p:nvCxnSpPr>
        <p:spPr>
          <a:xfrm flipV="1" rot="10800000">
            <a:off x="3311280" y="5176080"/>
            <a:ext cx="468720" cy="288360"/>
          </a:xfrm>
          <a:prstGeom prst="bentConnector3">
            <a:avLst>
              <a:gd name="adj1" fmla="val 500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0" idx="1"/>
            <a:endCxn id="56" idx="3"/>
          </p:cNvCxnSpPr>
          <p:nvPr/>
        </p:nvCxnSpPr>
        <p:spPr>
          <a:xfrm rot="10800000">
            <a:off x="3311280" y="5464080"/>
            <a:ext cx="468720" cy="286920"/>
          </a:xfrm>
          <a:prstGeom prst="bentConnector3">
            <a:avLst>
              <a:gd name="adj1" fmla="val 500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6" idx="1"/>
            <a:endCxn id="78" idx="3"/>
          </p:cNvCxnSpPr>
          <p:nvPr/>
        </p:nvCxnSpPr>
        <p:spPr>
          <a:xfrm rot="10800000">
            <a:off x="6803640" y="4131000"/>
            <a:ext cx="648000" cy="125856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451640" y="3068640"/>
            <a:ext cx="122400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Assistant gestion dépenses - 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78" idx="3"/>
            <a:endCxn id="100" idx="1"/>
          </p:cNvCxnSpPr>
          <p:nvPr/>
        </p:nvCxnSpPr>
        <p:spPr>
          <a:xfrm flipV="1">
            <a:off x="6804000" y="3230640"/>
            <a:ext cx="648000" cy="90108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80" idx="3"/>
            <a:endCxn id="81" idx="1"/>
          </p:cNvCxnSpPr>
          <p:nvPr/>
        </p:nvCxnSpPr>
        <p:spPr>
          <a:xfrm flipV="1">
            <a:off x="6800760" y="2764080"/>
            <a:ext cx="684720" cy="287640"/>
          </a:xfrm>
          <a:prstGeom prst="bentConnector3">
            <a:avLst>
              <a:gd name="adj1" fmla="val 500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78" idx="3"/>
            <a:endCxn id="79" idx="1"/>
          </p:cNvCxnSpPr>
          <p:nvPr/>
        </p:nvCxnSpPr>
        <p:spPr>
          <a:xfrm flipV="1">
            <a:off x="6804000" y="3591000"/>
            <a:ext cx="648000" cy="540720"/>
          </a:xfrm>
          <a:prstGeom prst="bentConnector3">
            <a:avLst>
              <a:gd name="adj1" fmla="val 499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46" idx="0"/>
            <a:endCxn id="42" idx="2"/>
          </p:cNvCxnSpPr>
          <p:nvPr/>
        </p:nvCxnSpPr>
        <p:spPr>
          <a:xfrm flipH="1" flipV="1" rot="5400000">
            <a:off x="3386160" y="668880"/>
            <a:ext cx="819720" cy="1730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 flipH="1" rot="16200000">
            <a:off x="4571640" y="-949320"/>
            <a:ext cx="2160" cy="2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57" idx="3"/>
            <a:endCxn id="65" idx="1"/>
          </p:cNvCxnSpPr>
          <p:nvPr/>
        </p:nvCxnSpPr>
        <p:spPr>
          <a:xfrm>
            <a:off x="3509640" y="3771720"/>
            <a:ext cx="268920" cy="768960"/>
          </a:xfrm>
          <a:prstGeom prst="bentConnector5">
            <a:avLst>
              <a:gd name="adj1" fmla="val 642091"/>
              <a:gd name="adj2" fmla="val 165199"/>
              <a:gd name="adj3" fmla="val 136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55" idx="3"/>
            <a:endCxn id="65" idx="1"/>
          </p:cNvCxnSpPr>
          <p:nvPr/>
        </p:nvCxnSpPr>
        <p:spPr>
          <a:xfrm flipV="1">
            <a:off x="3311640" y="4540320"/>
            <a:ext cx="4669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286160" y="3716280"/>
            <a:ext cx="90036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- Chargé d’ét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47" idx="1"/>
            <a:endCxn id="108" idx="1"/>
          </p:cNvCxnSpPr>
          <p:nvPr/>
        </p:nvCxnSpPr>
        <p:spPr>
          <a:xfrm flipH="1" flipV="1" rot="10800000">
            <a:off x="4030560" y="2302200"/>
            <a:ext cx="255960" cy="1648080"/>
          </a:xfrm>
          <a:prstGeom prst="bentConnector3">
            <a:avLst>
              <a:gd name="adj1" fmla="val -9070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68" idx="3"/>
            <a:endCxn id="42" idx="1"/>
          </p:cNvCxnSpPr>
          <p:nvPr/>
        </p:nvCxnSpPr>
        <p:spPr>
          <a:xfrm>
            <a:off x="2338560" y="761040"/>
            <a:ext cx="151308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42" idx="3"/>
            <a:endCxn id="43" idx="1"/>
          </p:cNvCxnSpPr>
          <p:nvPr/>
        </p:nvCxnSpPr>
        <p:spPr>
          <a:xfrm flipV="1">
            <a:off x="5470560" y="761040"/>
            <a:ext cx="14781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42" idx="2"/>
            <a:endCxn id="48" idx="0"/>
          </p:cNvCxnSpPr>
          <p:nvPr/>
        </p:nvCxnSpPr>
        <p:spPr>
          <a:xfrm flipH="1" rot="16200000">
            <a:off x="5133240" y="651240"/>
            <a:ext cx="819720" cy="1764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42" idx="2"/>
            <a:endCxn id="47" idx="0"/>
          </p:cNvCxnSpPr>
          <p:nvPr/>
        </p:nvCxnSpPr>
        <p:spPr>
          <a:xfrm flipH="1">
            <a:off x="4659840" y="1123920"/>
            <a:ext cx="1440" cy="81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48" idx="1"/>
            <a:endCxn id="80" idx="1"/>
          </p:cNvCxnSpPr>
          <p:nvPr/>
        </p:nvCxnSpPr>
        <p:spPr>
          <a:xfrm flipV="1" rot="10800000">
            <a:off x="5721120" y="2302560"/>
            <a:ext cx="74880" cy="749160"/>
          </a:xfrm>
          <a:prstGeom prst="bentConnector3">
            <a:avLst>
              <a:gd name="adj1" fmla="val 4106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77" idx="1"/>
            <a:endCxn id="80" idx="3"/>
          </p:cNvCxnSpPr>
          <p:nvPr/>
        </p:nvCxnSpPr>
        <p:spPr>
          <a:xfrm flipV="1" rot="10800000">
            <a:off x="6800400" y="2403360"/>
            <a:ext cx="684720" cy="64800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48" idx="3"/>
            <a:endCxn id="76" idx="1"/>
          </p:cNvCxnSpPr>
          <p:nvPr/>
        </p:nvCxnSpPr>
        <p:spPr>
          <a:xfrm flipV="1">
            <a:off x="7054920" y="2006640"/>
            <a:ext cx="43056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68" idx="3"/>
            <a:endCxn id="42" idx="1"/>
          </p:cNvCxnSpPr>
          <p:nvPr/>
        </p:nvCxnSpPr>
        <p:spPr>
          <a:xfrm>
            <a:off x="2338560" y="761040"/>
            <a:ext cx="151308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836640"/>
          <a:ext cx="8207280" cy="52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36640"/>
                    <a:ext cx="820728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5:07:18Z</dcterms:created>
  <dc:creator>TOTO</dc:creator>
  <dc:description/>
  <dc:language>en-US</dc:language>
  <cp:lastModifiedBy>Marie-Jo CREVEL</cp:lastModifiedBy>
  <dcterms:modified xsi:type="dcterms:W3CDTF">2008-01-18T16:42:50Z</dcterms:modified>
  <cp:revision>55</cp:revision>
  <dc:subject/>
  <dc:title>Diapositive 1</dc:title>
</cp:coreProperties>
</file>